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929-D876-4C33-A282-F97596BC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272-1973-4490-B5B1-BDEA47B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FC2-D04F-4FBD-88C6-4CFAAAAC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871-EBF8-44C2-AAA9-5DFC485B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36CC-9705-4273-87A1-1546D1C5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4CA5-08E6-4E95-A701-DEAD40B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6842-30E7-4703-A55B-EB7FE9AB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8614-058D-44DC-8D8D-3574740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1811-3F76-4812-BE8D-75CD9CB5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2449-6482-49B0-80C8-4CAA218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CCEE-6C64-4142-A2F5-93348108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492-86EE-48AF-BC0E-242D6056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21F4-E3FF-4CC2-940E-682A477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C30-C3FE-450F-8B78-750732A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3A1B-10C3-436B-8B5A-B1C0FF99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A2E-DBAC-40E1-A1A4-E1BE9AAF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E2A1-A541-410D-8A77-1050AD57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E64-E4F9-423C-8E89-98676A5A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993-FAC0-4DCC-AC90-99E5199D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7CD-2293-4F72-9F32-CD404973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F6B-71DA-4259-8771-2D9E5A3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065-7852-4EEE-ABC4-DD28FCA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EB4-7B77-4ACE-9B69-34804BF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26F-40C0-49A7-B67F-B81708D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Users\Alex\Desktop\Send Back to FTP\LO banner art\BIO10NAE_16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4DB3-E3CB-4E44-B055-3C91883E7B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D41-954D-46D2-BEE6-80633D881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wi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Voyage of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C:\Users\Alex\Desktop\Send Back to FTP\LO banner art\BIO10NAE_16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wi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Voyage of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635E-D2D7-4C72-8EB4-752096AA7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7175-C19D-405A-A23A-4E99541F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are 2 things that you didn’t know about Darwin that you learned from the vide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Darwin found many unique spe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4419720"/>
            <a:ext cx="8991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of Darwi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observations made him wonder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Calibri"/>
              </a:rPr>
              <a:t>Darwin asked: </a:t>
            </a:r>
            <a:r>
              <a:rPr b="1" lang="en-US" sz="2800" spc="-1" strike="noStrike">
                <a:solidFill>
                  <a:srgbClr val="0f116a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were these creatures found only 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Galapagos Islan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30560" cy="209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f116a"/>
            </a:outerShdw>
          </a:effectLst>
        </p:spPr>
      </p:pic>
      <p:pic>
        <p:nvPicPr>
          <p:cNvPr id="124" name="Picture 7" descr=""/>
          <p:cNvPicPr/>
          <p:nvPr/>
        </p:nvPicPr>
        <p:blipFill>
          <a:blip r:embed="rId2"/>
          <a:srcRect l="17088" t="16366" r="4882" b="0"/>
          <a:stretch/>
        </p:blipFill>
        <p:spPr>
          <a:xfrm>
            <a:off x="3429000" y="1600200"/>
            <a:ext cx="2141640" cy="171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28195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rwin found…clues in the foss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arwin fou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organisms have changed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tinct armadillos &amp; modern armadillos can be found on the same conti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Alex\Desktop\Batch 4\Art\Art 3_18_09+\BIO10NAE_05_16_02_005_LRIM_09.png"/>
          <p:cNvPicPr/>
          <p:nvPr/>
        </p:nvPicPr>
        <p:blipFill>
          <a:blip r:embed="rId1"/>
          <a:stretch/>
        </p:blipFill>
        <p:spPr>
          <a:xfrm>
            <a:off x="4724280" y="144792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152280" y="5410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ssils are the preserved remains or traces of ancient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rwin found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 shells on tortoises from different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islands in the Galapagos were home to distinct forms of giant land tortoi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ortoises’ shells varied in predictable ways from one island to an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hape of the tortoises’ shells corresponds to different habita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32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988080" cy="299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rwin found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 shells on tortoises from different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026" descr=""/>
          <p:cNvPicPr/>
          <p:nvPr/>
        </p:nvPicPr>
        <p:blipFill>
          <a:blip r:embed="rId1"/>
          <a:srcRect l="0" t="0" r="2457" b="17222"/>
          <a:stretch/>
        </p:blipFill>
        <p:spPr>
          <a:xfrm>
            <a:off x="1066680" y="2057400"/>
            <a:ext cx="65833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rwin’s Fin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1200" r="14399" b="0"/>
          <a:stretch/>
        </p:blipFill>
        <p:spPr>
          <a:xfrm>
            <a:off x="4419720" y="20574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724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rwin found many different birds on the Galapagos Isla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28600" y="41148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hought that he had found many different types of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Darwin found… a lot of 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f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0" t="1200" r="14399" b="0"/>
          <a:stretch/>
        </p:blipFill>
        <p:spPr>
          <a:xfrm>
            <a:off x="4876920" y="160020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649760" cy="24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1"/>
                </a:solidFill>
                <a:latin typeface="Calibri"/>
              </a:rPr>
              <a:t>Darwin was amazed to </a:t>
            </a:r>
            <a:br>
              <a:rPr sz="3200"/>
            </a:br>
            <a:r>
              <a:rPr b="0" lang="en-US" sz="3200" spc="-1" strike="noStrike">
                <a:solidFill>
                  <a:srgbClr val="006c01"/>
                </a:solidFill>
                <a:latin typeface="Calibri"/>
              </a:rPr>
              <a:t>find ou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14 species of bir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ctu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nch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304920" y="3581280"/>
            <a:ext cx="495288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there is onl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pecies of finch on the main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04920" y="5029200"/>
            <a:ext cx="86104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c01"/>
                </a:solidFill>
                <a:latin typeface="Arial"/>
                <a:ea typeface="Arial"/>
              </a:rPr>
              <a:t>Darwin as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he Galapagos finches came from the mainland, why are they so differen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rcRect l="0" t="1200" r="14399" b="0"/>
          <a:stretch/>
        </p:blipFill>
        <p:spPr>
          <a:xfrm>
            <a:off x="5181480" y="16002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571500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beaks are inherited varia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erve as adaptations that help birds compete for f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se birds survive &amp; reproduce m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ss on the genes for those more fit bea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ver time nature selected for different species with different bea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Alex\Desktop\Batch 4\Art\Art 3_18_09+\BIO10NAE_05_16_02_005_LRIM_08.png"/>
          <p:cNvPicPr/>
          <p:nvPr/>
        </p:nvPicPr>
        <p:blipFill>
          <a:blip r:embed="rId2"/>
          <a:stretch/>
        </p:blipFill>
        <p:spPr>
          <a:xfrm>
            <a:off x="2476440" y="5334120"/>
            <a:ext cx="666756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Darwin’s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 between species (beaks) &amp;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0" r="0" b="3786"/>
          <a:stretch/>
        </p:blipFill>
        <p:spPr>
          <a:xfrm>
            <a:off x="685800" y="1523880"/>
            <a:ext cx="764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From 1 Species to 14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7"/>
          <p:cNvGrpSpPr/>
          <p:nvPr/>
        </p:nvGrpSpPr>
        <p:grpSpPr>
          <a:xfrm>
            <a:off x="-66600" y="1981080"/>
            <a:ext cx="9210600" cy="4587840"/>
            <a:chOff x="-66600" y="1981080"/>
            <a:chExt cx="9210600" cy="4587840"/>
          </a:xfrm>
        </p:grpSpPr>
        <p:pic>
          <p:nvPicPr>
            <p:cNvPr id="153" name="Picture 9" descr=""/>
            <p:cNvPicPr/>
            <p:nvPr/>
          </p:nvPicPr>
          <p:blipFill>
            <a:blip r:embed="rId1"/>
            <a:srcRect l="0" t="7504" r="0" b="22504"/>
            <a:stretch/>
          </p:blipFill>
          <p:spPr>
            <a:xfrm>
              <a:off x="270000" y="1981080"/>
              <a:ext cx="8735760" cy="45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0"/>
            <p:cNvSpPr/>
            <p:nvPr/>
          </p:nvSpPr>
          <p:spPr>
            <a:xfrm>
              <a:off x="3163320" y="2460240"/>
              <a:ext cx="129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rbler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049760" y="2964960"/>
              <a:ext cx="175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odpecker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446040" y="3623760"/>
              <a:ext cx="1522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mall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ectivor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-66600" y="4377960"/>
              <a:ext cx="1490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ectivor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247320" y="5711400"/>
              <a:ext cx="1037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geta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935600" y="246024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ctus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6289200" y="2964960"/>
              <a:ext cx="18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rp-beaked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7451640" y="3623760"/>
              <a:ext cx="69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mall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7899480" y="4632120"/>
              <a:ext cx="958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8185320" y="5533560"/>
              <a:ext cx="958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rge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3338280" y="5135400"/>
              <a:ext cx="123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ect ea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3161520" y="592740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d e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4860360" y="5454360"/>
              <a:ext cx="113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ed ea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4511160" y="446040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ct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 rot="20940000">
              <a:off x="3981240" y="3758760"/>
              <a:ext cx="756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rb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 rot="18262800">
              <a:off x="2337840" y="4686120"/>
              <a:ext cx="119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 rot="3307200">
              <a:off x="5719680" y="4802040"/>
              <a:ext cx="149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 finch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23920" y="19047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48320" y="3200400"/>
            <a:ext cx="44956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.1 Darw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Voy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Dis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1639" t="1195" r="0" b="0"/>
          <a:stretch/>
        </p:blipFill>
        <p:spPr>
          <a:xfrm>
            <a:off x="31680" y="152280"/>
            <a:ext cx="4732560" cy="6513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INK ABOUT I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’d met young Charles Darwin, you probably wouldn’t have guessed that his ideas would change the way we look at the world. As a boy, Darwin wasn’t a star stud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t Charles would one day come up with one of the most important scientific theories of all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Alex\Desktop\Batch 4\Art\Art 3_18_09+\BIO10NAE_05_16_02_005_LRIM_01.png"/>
          <p:cNvPicPr/>
          <p:nvPr/>
        </p:nvPicPr>
        <p:blipFill>
          <a:blip r:embed="rId1"/>
          <a:stretch/>
        </p:blipFill>
        <p:spPr>
          <a:xfrm>
            <a:off x="5587920" y="1365120"/>
            <a:ext cx="355608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Charles Darwin’s contribution to sc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how modern organisms have evolved over long period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Essential Qu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organisms change over ti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rles Darw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posed an explanation of how evolution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Organism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over long periods of time by natur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llected a lot of evidence to support his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Lived from 1809-188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ritish natura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rcRect l="0" t="3652" r="0" b="0"/>
          <a:stretch/>
        </p:blipFill>
        <p:spPr>
          <a:xfrm>
            <a:off x="6324480" y="762120"/>
            <a:ext cx="2819520" cy="3450960"/>
          </a:xfrm>
          <a:prstGeom prst="rect">
            <a:avLst/>
          </a:prstGeom>
          <a:ln w="9360">
            <a:solidFill>
              <a:srgbClr val="121212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rwin</a:t>
            </a:r>
            <a:r>
              <a:rPr b="1" lang="ja-JP" sz="4000" spc="-1" strike="noStrike">
                <a:solidFill>
                  <a:srgbClr val="339966"/>
                </a:solidFill>
                <a:latin typeface="Arial"/>
                <a:ea typeface="Arial"/>
              </a:rPr>
              <a:t>’</a:t>
            </a: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s Epic Journ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d to travel around the world on the HMS Bea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1831-1836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22 years 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many observations of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mission of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ag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o ch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American coast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Alex\Desktop\Batch 4\Art\Art 3_18_09+\BIO10NAE_05_16_02_005_LRIM_02.png"/>
          <p:cNvPicPr/>
          <p:nvPr/>
        </p:nvPicPr>
        <p:blipFill>
          <a:blip r:embed="rId1"/>
          <a:stretch/>
        </p:blipFill>
        <p:spPr>
          <a:xfrm>
            <a:off x="-1981080" y="4343400"/>
            <a:ext cx="91422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2400" t="2151" r="3221" b="17166"/>
          <a:stretch/>
        </p:blipFill>
        <p:spPr>
          <a:xfrm>
            <a:off x="5257800" y="4038480"/>
            <a:ext cx="3560760" cy="227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Observations Aboard the </a:t>
            </a: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a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Beagle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ped in the Galapagos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Located 500 miles off coast of Ecu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228600" y="2874960"/>
            <a:ext cx="8458200" cy="3962520"/>
          </a:xfrm>
          <a:prstGeom prst="rect">
            <a:avLst/>
          </a:prstGeom>
          <a:ln w="0">
            <a:noFill/>
          </a:ln>
        </p:spPr>
      </p:pic>
      <p:sp>
        <p:nvSpPr>
          <p:cNvPr id="114" name="Oval 7"/>
          <p:cNvSpPr/>
          <p:nvPr/>
        </p:nvSpPr>
        <p:spPr>
          <a:xfrm>
            <a:off x="1523880" y="4191120"/>
            <a:ext cx="784440" cy="73800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Galapagos Is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formed volcanic isla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ost of animals on the Galápagos live nowhere else in world, but they look like species living on South American main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5638680" y="1905120"/>
            <a:ext cx="3200400" cy="4432320"/>
            <a:chOff x="5638680" y="1905120"/>
            <a:chExt cx="3200400" cy="4432320"/>
          </a:xfrm>
        </p:grpSpPr>
        <p:sp>
          <p:nvSpPr>
            <p:cNvPr id="118" name="Rectangle 6"/>
            <p:cNvSpPr/>
            <p:nvPr/>
          </p:nvSpPr>
          <p:spPr>
            <a:xfrm>
              <a:off x="5638680" y="1905120"/>
              <a:ext cx="3200400" cy="443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7" descr=""/>
            <p:cNvPicPr/>
            <p:nvPr/>
          </p:nvPicPr>
          <p:blipFill>
            <a:blip r:embed="rId1"/>
            <a:stretch/>
          </p:blipFill>
          <p:spPr>
            <a:xfrm>
              <a:off x="5638680" y="1905120"/>
              <a:ext cx="3200400" cy="443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Oval 7"/>
          <p:cNvSpPr/>
          <p:nvPr/>
        </p:nvSpPr>
        <p:spPr>
          <a:xfrm>
            <a:off x="5410080" y="2438280"/>
            <a:ext cx="784440" cy="73836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dzahm</cp:lastModifiedBy>
  <dcterms:modified xsi:type="dcterms:W3CDTF">2013-10-09T14:44:11Z</dcterms:modified>
  <cp:revision>199</cp:revision>
  <dc:subject/>
  <dc:title>Slide 1</dc:title>
</cp:coreProperties>
</file>